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3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AAC81-926E-48E9-A697-B00BB20DD6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F5134-9359-424F-A152-DE861AA87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RIE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EC is an employers’ council of all labour-market participants – essentially, any organization that has an interest in an employer’s ability to hire and retain talent in this changing labour mark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ncludes employers of all types, community organizations, business / industry and professional associations, all levels of government, labour,  educational institutions and individual lead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believe that with an increasingly culturally diverse population in the GTA, the key to being labour-market ready in the 2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ntury is based on being immigrant-read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our mandate is to help GTA employers become labour-market ready by helping them become immigrant rea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3BC60-1173-4CC2-A7C2-6F262EE8E0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BDDC5-C9DF-4A7D-910C-9556197FF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llenges of employer eng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 contact (network development, create opportunities, leveraging existing partn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over of employer contacts (institutional involvem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 sales cycle (success as a factor of need, timing and capac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contacts within organizations that are not coordin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rnal factors; i.e. recession (adjust messa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ing buy-in across all levels (champions, facilitating internal communications, pilot succes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priate and effective opportunities for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loyer fatigue (manage and coordinate ask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F318B-D118-41F9-9FB4-1AEF050C49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07868-F46D-4594-8A9B-ED561BC41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228600" y="228600"/>
            <a:ext cx="8686800" cy="1295280"/>
          </a:xfrm>
          <a:prstGeom prst="rect">
            <a:avLst/>
          </a:pr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0" descr="NewTRIECcolourGreyBkg"/>
          <p:cNvPicPr/>
          <p:nvPr/>
        </p:nvPicPr>
        <p:blipFill>
          <a:blip r:embed="rId2"/>
          <a:stretch/>
        </p:blipFill>
        <p:spPr>
          <a:xfrm>
            <a:off x="380880" y="304920"/>
            <a:ext cx="1828800" cy="1096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228600"/>
            <a:ext cx="8686800" cy="1295280"/>
          </a:xfrm>
          <a:prstGeom prst="rect">
            <a:avLst/>
          </a:pr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5" descr="NewTRIECcolourGreyBkg"/>
          <p:cNvPicPr/>
          <p:nvPr/>
        </p:nvPicPr>
        <p:blipFill>
          <a:blip r:embed="rId2"/>
          <a:stretch/>
        </p:blipFill>
        <p:spPr>
          <a:xfrm>
            <a:off x="380880" y="304920"/>
            <a:ext cx="1828800" cy="10969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6"/>
          <p:cNvSpPr/>
          <p:nvPr/>
        </p:nvSpPr>
        <p:spPr>
          <a:xfrm>
            <a:off x="152280" y="6400800"/>
            <a:ext cx="8686800" cy="276480"/>
          </a:xfrm>
          <a:prstGeom prst="rect">
            <a:avLst/>
          </a:prstGeom>
          <a:solidFill>
            <a:srgbClr val="5481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StoneSans"/>
              </a:rPr>
              <a:t>New Realities. New Opportun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"/>
          <p:cNvPicPr/>
          <p:nvPr/>
        </p:nvPicPr>
        <p:blipFill>
          <a:blip r:embed="rId3"/>
          <a:stretch/>
        </p:blipFill>
        <p:spPr>
          <a:xfrm>
            <a:off x="228600" y="1523880"/>
            <a:ext cx="8683560" cy="7146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jpe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2720880"/>
            <a:ext cx="86104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gaging employers on immigrant employment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5800" y="495252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zabeth McIsaac, TRI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oronto LIPs Labour Marke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14 April 201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ing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Roadmap_sub-menu"/>
          <p:cNvPicPr/>
          <p:nvPr/>
        </p:nvPicPr>
        <p:blipFill>
          <a:blip r:embed="rId1"/>
          <a:srcRect l="0" t="10761" r="0" b="3585"/>
          <a:stretch/>
        </p:blipFill>
        <p:spPr>
          <a:xfrm>
            <a:off x="250920" y="2533680"/>
            <a:ext cx="8642160" cy="363852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4"/>
          <p:cNvSpPr/>
          <p:nvPr/>
        </p:nvSpPr>
        <p:spPr>
          <a:xfrm>
            <a:off x="2362320" y="1720800"/>
            <a:ext cx="50720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The Employer Road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www.hireimmigrants.ca/road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Roadmap_content-screen"/>
          <p:cNvPicPr/>
          <p:nvPr/>
        </p:nvPicPr>
        <p:blipFill>
          <a:blip r:embed="rId1"/>
          <a:stretch/>
        </p:blipFill>
        <p:spPr>
          <a:xfrm>
            <a:off x="250920" y="1523880"/>
            <a:ext cx="8642160" cy="510552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5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ing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000" y="1676160"/>
            <a:ext cx="849636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ployer Worksh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p employers with strategies, resources and tools to effectiv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ru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t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lled immigr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ruit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ing channels to attract skilled immigrant job candi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gnizing international credentials; Identifying cultural biases and assumptions that can affect hiring dec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te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ing inclusive work environments to ensure equal participation; Identifying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ystemic barri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at can prevent full inclusion; Building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ross-cultural competen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dividual, organizational); Creating strategies for educating recruiters, hiring managers, and general employee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6094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ing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CONNECT_logo"/>
          <p:cNvPicPr/>
          <p:nvPr/>
        </p:nvPicPr>
        <p:blipFill>
          <a:blip r:embed="rId1"/>
          <a:stretch/>
        </p:blipFill>
        <p:spPr>
          <a:xfrm>
            <a:off x="5334120" y="1600200"/>
            <a:ext cx="35812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8640" y="274320"/>
            <a:ext cx="795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38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ed in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 on finding solutions for including highly skilled immigrants in Toronto Region labour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-stakeholder collaboration: employers, universities, colleges, unions, community and immigrant organizations, occupational regulatory bodies, all three levels of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ion: A Greater Toronto Region that prospers by fully engaging the contributions of skilled immigr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2286000" y="533520"/>
            <a:ext cx="655164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RIE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loyer eng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2057400"/>
            <a:ext cx="2743200" cy="335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WARE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creasing employer awareness of the value of immigrant skills, education and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ublic awareness (print, TV ads, media / public relati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rategy development: identification of partnership opportunities / target groups, setting prioriti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3505320" y="2057400"/>
            <a:ext cx="2209680" cy="350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바탕"/>
              </a:rPr>
              <a:t>ACCEP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바탕"/>
              </a:rPr>
              <a:t>Increasing employer acceptance of the need to explore solutions and opportun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lationship development and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5943600" y="2057400"/>
            <a:ext cx="2819520" cy="304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바탕"/>
              </a:rPr>
              <a:t>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바탕"/>
              </a:rPr>
              <a:t>Enabling employers to take action and engage in solutions to recruit and integrate skilled immigrants into their workpl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articipation in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Spokespers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Champ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Informing sol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"/>
          <p:cNvSpPr/>
          <p:nvPr/>
        </p:nvSpPr>
        <p:spPr>
          <a:xfrm>
            <a:off x="1066680" y="6019920"/>
            <a:ext cx="61722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loyer eng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lleng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over of employer conta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contacts within organizations but not coord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ing buy-in across all leve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priate and effective opportunities for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sales cyc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rnal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loyer fati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5640" y="533160"/>
            <a:ext cx="655164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es TRIEC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920" y="2276640"/>
            <a:ext cx="864216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24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nes and collaborates with partners, creating opportunities for skilled immigrants to connect to the local labour market.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individual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4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 with key stakeholders, particularly employers, building their awareness and capacity to better integrate skilled immigrants into the workforce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organizational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4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 with all levels of government, enhancing coordination and effecting more responsive policy and programs for skilled immigrant employment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systemic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14240" y="259920"/>
            <a:ext cx="6305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9280" y="4114440"/>
            <a:ext cx="799308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cupation-specific matches between a newly arrived skilled immigrant and their established Canadian counter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2004, more than 5000 matches have been m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arly 80% of mentees surveyed have found full-time pos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cipation of 50+ corporate partners to recruit men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TMP new logo"/>
          <p:cNvPicPr/>
          <p:nvPr/>
        </p:nvPicPr>
        <p:blipFill>
          <a:blip r:embed="rId1"/>
          <a:stretch/>
        </p:blipFill>
        <p:spPr>
          <a:xfrm>
            <a:off x="4495680" y="2743200"/>
            <a:ext cx="3581640" cy="83808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5"/>
          <p:cNvSpPr/>
          <p:nvPr/>
        </p:nvSpPr>
        <p:spPr>
          <a:xfrm>
            <a:off x="6858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ing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304920" y="1905120"/>
            <a:ext cx="56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migrants lack professional networks that help make linkages to employment opportunit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ing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68360" y="2133720"/>
            <a:ext cx="56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migrants lack Canadian work experience often required by employ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684360" y="3505320"/>
            <a:ext cx="81356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id internship program that provides first Canadian work experience, operated by Career Edge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2003 over 1000 interns have been pla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ly there are over 350 active host organiz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arly 80% of interns secure full-time positions in their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8" descr=""/>
          <p:cNvPicPr/>
          <p:nvPr/>
        </p:nvPicPr>
        <p:blipFill>
          <a:blip r:embed="rId1"/>
          <a:srcRect l="0" t="13406" r="83102" b="79408"/>
          <a:stretch/>
        </p:blipFill>
        <p:spPr>
          <a:xfrm>
            <a:off x="5562720" y="2590920"/>
            <a:ext cx="2741400" cy="9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ing awar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TRIEC_posters_pg2"/>
          <p:cNvPicPr/>
          <p:nvPr/>
        </p:nvPicPr>
        <p:blipFill>
          <a:blip r:embed="rId1"/>
          <a:stretch/>
        </p:blipFill>
        <p:spPr>
          <a:xfrm>
            <a:off x="304920" y="1676520"/>
            <a:ext cx="3429000" cy="4800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Triec-Xerox_poster_smallsize"/>
          <p:cNvPicPr/>
          <p:nvPr/>
        </p:nvPicPr>
        <p:blipFill>
          <a:blip r:embed="rId2"/>
          <a:stretch/>
        </p:blipFill>
        <p:spPr>
          <a:xfrm>
            <a:off x="4114800" y="2076480"/>
            <a:ext cx="484992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ing awar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Logo STeam Whistle corp_grn_bg_sm"/>
          <p:cNvPicPr/>
          <p:nvPr/>
        </p:nvPicPr>
        <p:blipFill>
          <a:blip r:embed="rId1"/>
          <a:stretch/>
        </p:blipFill>
        <p:spPr>
          <a:xfrm>
            <a:off x="324000" y="2349360"/>
            <a:ext cx="1396800" cy="1513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9" descr="St. Michaels logo small_nobck.psd"/>
          <p:cNvPicPr/>
          <p:nvPr/>
        </p:nvPicPr>
        <p:blipFill>
          <a:blip r:embed="rId2"/>
          <a:stretch/>
        </p:blipFill>
        <p:spPr>
          <a:xfrm>
            <a:off x="2209680" y="2895480"/>
            <a:ext cx="1779840" cy="11559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IS_awards"/>
          <p:cNvPicPr/>
          <p:nvPr/>
        </p:nvPicPr>
        <p:blipFill>
          <a:blip r:embed="rId3"/>
          <a:stretch/>
        </p:blipFill>
        <p:spPr>
          <a:xfrm>
            <a:off x="3124080" y="1600200"/>
            <a:ext cx="701640" cy="10303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4038480" y="190512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migrant Success Aw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8" descr="i3-DVR-Logo_nobck.psd"/>
          <p:cNvPicPr/>
          <p:nvPr/>
        </p:nvPicPr>
        <p:blipFill>
          <a:blip r:embed="rId4"/>
          <a:stretch/>
        </p:blipFill>
        <p:spPr>
          <a:xfrm>
            <a:off x="6629400" y="2819520"/>
            <a:ext cx="1336680" cy="6681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Nytriclogotm_RGB.eps"/>
          <p:cNvPicPr/>
          <p:nvPr/>
        </p:nvPicPr>
        <p:blipFill>
          <a:blip r:embed="rId5"/>
          <a:stretch/>
        </p:blipFill>
        <p:spPr>
          <a:xfrm>
            <a:off x="4724280" y="3048120"/>
            <a:ext cx="1263600" cy="11300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EY_black_e_RGB.eps"/>
          <p:cNvPicPr/>
          <p:nvPr/>
        </p:nvPicPr>
        <p:blipFill>
          <a:blip r:embed="rId6"/>
          <a:stretch/>
        </p:blipFill>
        <p:spPr>
          <a:xfrm>
            <a:off x="3851280" y="5516640"/>
            <a:ext cx="1981080" cy="450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1" descr="XeroxResearchCentre_RGB.eps"/>
          <p:cNvPicPr/>
          <p:nvPr/>
        </p:nvPicPr>
        <p:blipFill>
          <a:blip r:embed="rId7"/>
          <a:stretch/>
        </p:blipFill>
        <p:spPr>
          <a:xfrm>
            <a:off x="1332000" y="5373720"/>
            <a:ext cx="2057400" cy="892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CH2MLOGO_RGB.eps"/>
          <p:cNvPicPr/>
          <p:nvPr/>
        </p:nvPicPr>
        <p:blipFill>
          <a:blip r:embed="rId8"/>
          <a:stretch/>
        </p:blipFill>
        <p:spPr>
          <a:xfrm>
            <a:off x="3124080" y="4572000"/>
            <a:ext cx="2171880" cy="611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3" descr="Logo GBC 2007 logo_301"/>
          <p:cNvPicPr/>
          <p:nvPr/>
        </p:nvPicPr>
        <p:blipFill>
          <a:blip r:embed="rId9"/>
          <a:stretch/>
        </p:blipFill>
        <p:spPr>
          <a:xfrm>
            <a:off x="611280" y="4076640"/>
            <a:ext cx="1800000" cy="1349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7" descr="FST_logo_RGB.eps"/>
          <p:cNvPicPr/>
          <p:nvPr/>
        </p:nvPicPr>
        <p:blipFill>
          <a:blip r:embed="rId10"/>
          <a:stretch/>
        </p:blipFill>
        <p:spPr>
          <a:xfrm>
            <a:off x="6705720" y="3809880"/>
            <a:ext cx="1636560" cy="10749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5" descr="pg 10 TRCA-colour"/>
          <p:cNvPicPr/>
          <p:nvPr/>
        </p:nvPicPr>
        <p:blipFill>
          <a:blip r:embed="rId11"/>
          <a:stretch/>
        </p:blipFill>
        <p:spPr>
          <a:xfrm>
            <a:off x="6300720" y="5157720"/>
            <a:ext cx="226224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20:13:15Z</dcterms:created>
  <dc:creator>Stephen Wilson</dc:creator>
  <dc:description/>
  <dc:language>en-US</dc:language>
  <cp:lastModifiedBy>sguerra</cp:lastModifiedBy>
  <dcterms:modified xsi:type="dcterms:W3CDTF">2010-04-15T18:57:57Z</dcterms:modified>
  <cp:revision>62</cp:revision>
  <dc:subject/>
  <dc:title>Slide 1</dc:title>
</cp:coreProperties>
</file>